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8.jpeg" ContentType="image/jpeg"/>
  <Override PartName="/ppt/media/image6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.jpeg" ContentType="image/jpeg"/>
  <Override PartName="/ppt/media/image10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99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2.1-</a:t>
            </a:r>
            <a:fld id="{C6382D4D-3A7E-4823-8C65-A766AB8B8C7A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5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99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BPB03_CA_Book_Cover"/>
          <p:cNvPicPr/>
          <p:nvPr/>
        </p:nvPicPr>
        <p:blipFill>
          <a:blip r:embed="rId1"/>
          <a:stretch/>
        </p:blipFill>
        <p:spPr>
          <a:xfrm>
            <a:off x="1655640" y="0"/>
            <a:ext cx="5832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Rectangl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Picture 5" descr="AW_Jen_Bittinger_ColAlgGM_4e"/>
            <p:cNvPicPr/>
            <p:nvPr/>
          </p:nvPicPr>
          <p:blipFill>
            <a:blip r:embed="rId2"/>
            <a:stretch/>
          </p:blipFill>
          <p:spPr>
            <a:xfrm>
              <a:off x="2104920" y="343080"/>
              <a:ext cx="4934160" cy="6172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Relative Maximum and Minimum Value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4" name="Line 5"/>
          <p:cNvSpPr/>
          <p:nvPr/>
        </p:nvSpPr>
        <p:spPr>
          <a:xfrm flipV="1">
            <a:off x="2743200" y="2285640"/>
            <a:ext cx="0" cy="304812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2209680" y="4952880"/>
            <a:ext cx="41911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286000" y="2209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172200" y="49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505320" y="49528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4114800" y="49528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4648320" y="49528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2"/>
          <p:cNvSpPr/>
          <p:nvPr/>
        </p:nvSpPr>
        <p:spPr>
          <a:xfrm>
            <a:off x="3124080" y="2895480"/>
            <a:ext cx="1676520" cy="152424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1008" h="960">
                <a:moveTo>
                  <a:pt x="0" y="336"/>
                </a:moveTo>
                <a:cubicBezTo>
                  <a:pt x="112" y="648"/>
                  <a:pt x="224" y="960"/>
                  <a:pt x="336" y="912"/>
                </a:cubicBezTo>
                <a:cubicBezTo>
                  <a:pt x="448" y="864"/>
                  <a:pt x="560" y="96"/>
                  <a:pt x="672" y="48"/>
                </a:cubicBezTo>
                <a:cubicBezTo>
                  <a:pt x="784" y="0"/>
                  <a:pt x="896" y="312"/>
                  <a:pt x="1008" y="624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13"/>
          <p:cNvSpPr/>
          <p:nvPr/>
        </p:nvSpPr>
        <p:spPr>
          <a:xfrm>
            <a:off x="4800600" y="1981080"/>
            <a:ext cx="1066680" cy="190512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672" h="1200">
                <a:moveTo>
                  <a:pt x="0" y="1200"/>
                </a:moveTo>
                <a:cubicBezTo>
                  <a:pt x="16" y="964"/>
                  <a:pt x="32" y="728"/>
                  <a:pt x="144" y="528"/>
                </a:cubicBezTo>
                <a:cubicBezTo>
                  <a:pt x="256" y="328"/>
                  <a:pt x="464" y="164"/>
                  <a:pt x="672" y="0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5486400" y="37339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Relative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3048120" y="160020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Relative 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4114800" y="24382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7"/>
          <p:cNvSpPr/>
          <p:nvPr/>
        </p:nvSpPr>
        <p:spPr>
          <a:xfrm flipH="1">
            <a:off x="3809520" y="419112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 flipH="1" flipV="1">
            <a:off x="4876560" y="396216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3657600" y="434340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4267080" y="2971800"/>
            <a:ext cx="0" cy="19810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4800600" y="3886200"/>
            <a:ext cx="0" cy="10666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5181480" y="1905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pplications of Functions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9250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real-world situations can be modeled by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an plans to enclose a rectangular area using 80 yards of fencing. If the area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ards wide, express the enclosed area as a func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ant area as a func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Since the area is rectangular, we ha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know that the perimeter, 2 lengths and 2 widths, is 80 yds, so we have 40 yds for one length and one width.  If the width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length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an be given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0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(40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unctions Defined Piecewis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1055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function defin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-3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Object 5"/>
          <p:cNvGraphicFramePr/>
          <p:nvPr/>
        </p:nvGraphicFramePr>
        <p:xfrm>
          <a:off x="0" y="0"/>
          <a:ext cx="91440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6"/>
          <p:cNvGraphicFramePr/>
          <p:nvPr/>
        </p:nvGraphicFramePr>
        <p:xfrm>
          <a:off x="4495680" y="2362320"/>
          <a:ext cx="3348000" cy="149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2362320"/>
                    <a:ext cx="3348000" cy="14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14"/>
          <p:cNvSpPr/>
          <p:nvPr/>
        </p:nvSpPr>
        <p:spPr>
          <a:xfrm>
            <a:off x="990720" y="99072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functions are defin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iece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ing different output formulas for different parts of the dom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914400" y="419112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 –3     0,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–3) = (–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 0 &lt; 1    2,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4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=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 5 &gt; 2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 = 5 – 1 = 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16"/>
          <p:cNvGraphicFramePr/>
          <p:nvPr/>
        </p:nvGraphicFramePr>
        <p:xfrm>
          <a:off x="2209680" y="4267080"/>
          <a:ext cx="246240" cy="29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4267080"/>
                    <a:ext cx="246240" cy="2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17"/>
          <p:cNvGraphicFramePr/>
          <p:nvPr/>
        </p:nvGraphicFramePr>
        <p:xfrm>
          <a:off x="2514600" y="4800600"/>
          <a:ext cx="246240" cy="295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14600" y="4800600"/>
                    <a:ext cx="24624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4191120" y="56386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 We grap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eater than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unctions Defined Piecewis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4343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the function defin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We grap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inpu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ss than or equal to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We grap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inpu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eater than 0  and less than or equal to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0" y="0"/>
          <a:ext cx="91440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6"/>
          <p:cNvGraphicFramePr/>
          <p:nvPr/>
        </p:nvGraphicFramePr>
        <p:xfrm>
          <a:off x="838080" y="1600200"/>
          <a:ext cx="3473640" cy="196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600200"/>
                    <a:ext cx="3473640" cy="19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Group 12"/>
          <p:cNvGrpSpPr/>
          <p:nvPr/>
        </p:nvGrpSpPr>
        <p:grpSpPr>
          <a:xfrm>
            <a:off x="4800600" y="1295280"/>
            <a:ext cx="4199040" cy="3736080"/>
            <a:chOff x="4800600" y="1295280"/>
            <a:chExt cx="4199040" cy="3736080"/>
          </a:xfrm>
        </p:grpSpPr>
        <p:pic>
          <p:nvPicPr>
            <p:cNvPr id="157" name="Picture 4" descr=""/>
            <p:cNvPicPr/>
            <p:nvPr/>
          </p:nvPicPr>
          <p:blipFill>
            <a:blip r:embed="rId5"/>
            <a:stretch/>
          </p:blipFill>
          <p:spPr>
            <a:xfrm>
              <a:off x="5105520" y="1295280"/>
              <a:ext cx="3333600" cy="33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7"/>
            <p:cNvSpPr/>
            <p:nvPr/>
          </p:nvSpPr>
          <p:spPr>
            <a:xfrm>
              <a:off x="4800600" y="3962160"/>
              <a:ext cx="1676520" cy="3070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, for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8"/>
            <p:cNvSpPr/>
            <p:nvPr/>
          </p:nvSpPr>
          <p:spPr>
            <a:xfrm>
              <a:off x="6705720" y="4724280"/>
              <a:ext cx="2209680" cy="3070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 +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, for 0 &lt;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9"/>
            <p:cNvSpPr/>
            <p:nvPr/>
          </p:nvSpPr>
          <p:spPr>
            <a:xfrm flipH="1" flipV="1">
              <a:off x="7238880" y="3352680"/>
              <a:ext cx="5331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1" name="Object 10"/>
            <p:cNvGraphicFramePr/>
            <p:nvPr/>
          </p:nvGraphicFramePr>
          <p:xfrm>
            <a:off x="7391520" y="1981080"/>
            <a:ext cx="1608120" cy="4586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62" name="Object 10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391520" y="1981080"/>
                      <a:ext cx="1608120" cy="45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63" name="Object 11"/>
          <p:cNvGraphicFramePr/>
          <p:nvPr/>
        </p:nvGraphicFramePr>
        <p:xfrm>
          <a:off x="6629400" y="5410080"/>
          <a:ext cx="630360" cy="741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4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29400" y="5410080"/>
                    <a:ext cx="6303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2971800" y="152388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the greatest integ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ss than or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qual to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reatest Integer Fun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0"/>
          <a:ext cx="91440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13"/>
          <p:cNvGraphicFramePr/>
          <p:nvPr/>
        </p:nvGraphicFramePr>
        <p:xfrm>
          <a:off x="1066680" y="4267080"/>
          <a:ext cx="601920" cy="166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267080"/>
                    <a:ext cx="601920" cy="16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17"/>
          <p:cNvGraphicFramePr/>
          <p:nvPr/>
        </p:nvGraphicFramePr>
        <p:xfrm>
          <a:off x="990720" y="1523880"/>
          <a:ext cx="2043000" cy="58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1523880"/>
                    <a:ext cx="204300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Line 18"/>
          <p:cNvSpPr/>
          <p:nvPr/>
        </p:nvSpPr>
        <p:spPr>
          <a:xfrm>
            <a:off x="1676520" y="4419720"/>
            <a:ext cx="685800" cy="380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9"/>
          <p:cNvSpPr/>
          <p:nvPr/>
        </p:nvSpPr>
        <p:spPr>
          <a:xfrm flipV="1">
            <a:off x="1676520" y="5181120"/>
            <a:ext cx="68580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0"/>
          <p:cNvSpPr/>
          <p:nvPr/>
        </p:nvSpPr>
        <p:spPr>
          <a:xfrm>
            <a:off x="1752480" y="495288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914400" y="266688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eatest integer function pairs the input with the greatest integ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ss than or equal 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inp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243828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23"/>
          <p:cNvGraphicFramePr/>
          <p:nvPr/>
        </p:nvGraphicFramePr>
        <p:xfrm>
          <a:off x="3214800" y="4267080"/>
          <a:ext cx="419040" cy="166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0" name="Object 2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14800" y="4267080"/>
                    <a:ext cx="419040" cy="16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Line 24"/>
          <p:cNvSpPr/>
          <p:nvPr/>
        </p:nvSpPr>
        <p:spPr>
          <a:xfrm>
            <a:off x="3733920" y="4419720"/>
            <a:ext cx="685800" cy="380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5"/>
          <p:cNvSpPr/>
          <p:nvPr/>
        </p:nvSpPr>
        <p:spPr>
          <a:xfrm flipV="1">
            <a:off x="3733920" y="5181120"/>
            <a:ext cx="68580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6"/>
          <p:cNvSpPr/>
          <p:nvPr/>
        </p:nvSpPr>
        <p:spPr>
          <a:xfrm>
            <a:off x="3809880" y="495288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7"/>
          <p:cNvSpPr/>
          <p:nvPr/>
        </p:nvSpPr>
        <p:spPr>
          <a:xfrm>
            <a:off x="449568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28"/>
          <p:cNvGraphicFramePr/>
          <p:nvPr/>
        </p:nvGraphicFramePr>
        <p:xfrm>
          <a:off x="5486400" y="4191120"/>
          <a:ext cx="419040" cy="1665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6" name="Object 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86400" y="4191120"/>
                    <a:ext cx="419040" cy="16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Line 29"/>
          <p:cNvSpPr/>
          <p:nvPr/>
        </p:nvSpPr>
        <p:spPr>
          <a:xfrm>
            <a:off x="6005520" y="4343400"/>
            <a:ext cx="685800" cy="380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0"/>
          <p:cNvSpPr/>
          <p:nvPr/>
        </p:nvSpPr>
        <p:spPr>
          <a:xfrm flipV="1">
            <a:off x="6005520" y="5105520"/>
            <a:ext cx="685800" cy="3045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1"/>
          <p:cNvSpPr/>
          <p:nvPr/>
        </p:nvSpPr>
        <p:spPr>
          <a:xfrm>
            <a:off x="6081840" y="487692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2"/>
          <p:cNvSpPr/>
          <p:nvPr/>
        </p:nvSpPr>
        <p:spPr>
          <a:xfrm>
            <a:off x="6767640" y="4648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Determine the intervals on which the function is (a) increasing, (b) decreasing, and © constant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92" name="Content Placeholder 5" descr="col_alg_tut32ex6a.gif"/>
          <p:cNvPicPr/>
          <p:nvPr/>
        </p:nvPicPr>
        <p:blipFill>
          <a:blip r:embed="rId1"/>
          <a:srcRect l="21607" t="0" r="21664" b="0"/>
          <a:stretch/>
        </p:blipFill>
        <p:spPr>
          <a:xfrm>
            <a:off x="698400" y="569880"/>
            <a:ext cx="5550120" cy="5754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480024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Determine the domain and range of the function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96" name="Content Placeholder 5" descr="col_alg_tut32ex6a.gif"/>
          <p:cNvPicPr/>
          <p:nvPr/>
        </p:nvPicPr>
        <p:blipFill>
          <a:blip r:embed="rId1"/>
          <a:stretch/>
        </p:blipFill>
        <p:spPr>
          <a:xfrm>
            <a:off x="747720" y="1676520"/>
            <a:ext cx="5641920" cy="33177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480024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Determine any relative maxima or minima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200" name="Content Placeholder 5" descr="col_alg_tut32ex6a.gif"/>
          <p:cNvPicPr/>
          <p:nvPr/>
        </p:nvPicPr>
        <p:blipFill>
          <a:blip r:embed="rId1"/>
          <a:stretch/>
        </p:blipFill>
        <p:spPr>
          <a:xfrm>
            <a:off x="747720" y="1676520"/>
            <a:ext cx="5641920" cy="33177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480024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Determine the intervals on which the function is (a) increasing, (b) decreasing, and © constant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80024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Content Placeholder 7" descr="f0048-02.jpg"/>
          <p:cNvPicPr/>
          <p:nvPr/>
        </p:nvPicPr>
        <p:blipFill>
          <a:blip r:embed="rId1"/>
          <a:stretch/>
        </p:blipFill>
        <p:spPr>
          <a:xfrm>
            <a:off x="1066680" y="1947960"/>
            <a:ext cx="358164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Determine the domain and range of the function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80024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ooter Placeholder 4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Content Placeholder 7" descr="f0048-02.jpg"/>
          <p:cNvPicPr/>
          <p:nvPr/>
        </p:nvPicPr>
        <p:blipFill>
          <a:blip r:embed="rId1"/>
          <a:stretch/>
        </p:blipFill>
        <p:spPr>
          <a:xfrm>
            <a:off x="1066680" y="1947960"/>
            <a:ext cx="358164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hapter 1 Tes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:  8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n:  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down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 A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 B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C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D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F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ooter Placeholder 1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Determine any relative maxima or minima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80024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Content Placeholder 7" descr="f0048-02.jpg"/>
          <p:cNvPicPr/>
          <p:nvPr/>
        </p:nvPicPr>
        <p:blipFill>
          <a:blip r:embed="rId1"/>
          <a:stretch/>
        </p:blipFill>
        <p:spPr>
          <a:xfrm>
            <a:off x="1066680" y="1947960"/>
            <a:ext cx="358164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Graph the function. Estimate the intervals on which the function is increasing or decreasing and any relative maxima or minima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80024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Content Placeholder 5"/>
              <p:cNvSpPr txBox="1"/>
              <p:nvPr/>
            </p:nvSpPr>
            <p:spPr>
              <a:xfrm>
                <a:off x="685800" y="3370320"/>
                <a:ext cx="39625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Graph the function using the given viewing window.  Find the intervals on which the function is increasing or decreasing and find any relative maxima or minima.</a:t>
            </a:r>
            <a:endParaRPr b="0" lang="en-US" sz="2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80024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Content Placeholder 5"/>
              <p:cNvSpPr txBox="1"/>
              <p:nvPr/>
            </p:nvSpPr>
            <p:spPr>
              <a:xfrm>
                <a:off x="1447920" y="1752480"/>
                <a:ext cx="36748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−</m:t>
                        </m:r>
                        <m:r>
                          <m:t xml:space="preserve">3,7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or each piecewise function, find the specified function values.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80024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Content Placeholder 5"/>
              <p:cNvSpPr txBox="1"/>
              <p:nvPr/>
            </p:nvSpPr>
            <p:spPr>
              <a:xfrm>
                <a:off x="838080" y="1905120"/>
                <a:ext cx="42814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forx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e>
                              <m:e/>
                            </m:d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fo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1</m:t>
                                </m:r>
                              </m:e>
                              <m:e/>
                            </m:d>
                          </m:e>
                        </m:eqArr>
                        <m:d>
                          <m:dPr>
                            <m:begChr m:val="{"/>
                            <m:endChr m:val="}"/>
                          </m:dPr>
                        </m:d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http://www.education.com/study-help/article/pre-calculus-help-practice-functions/</a:t>
            </a:r>
            <a:endParaRPr b="0" lang="en-US" sz="2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8544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80024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HA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TER 2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More on Function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90360" y="228564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1  Increasing, Decreasing, and Piecewi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ctions;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2  The Algebra of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3  The Composition of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4  Symmetry and Transformat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5  Variation and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2.1 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ncreasing, Decreasing, and Piecewise Functions; Applications</a:t>
            </a:r>
            <a:br>
              <a:rPr sz="3200"/>
            </a:b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440" y="22860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functions, looking for intervals on whic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function is increasing, decreasing,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ant, and estimate relative maxima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ni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n application, find a function that models the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pplication; find the domain of the function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 values, and then graph the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functions defined piecewi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ncreasing, Decreasing, and Constant Function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488960"/>
            <a:ext cx="80769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a given interval, if the graph of a function rises from left to right, it is said to b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increas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that interval. If the graph drops from left to right, it is said to b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decreas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function values stay the same from left to right, the function is said to b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consta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efini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88560" y="1523880"/>
            <a:ext cx="39639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said to b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erva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f for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at interv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01_01"/>
          <p:cNvPicPr/>
          <p:nvPr/>
        </p:nvPicPr>
        <p:blipFill>
          <a:blip r:embed="rId1"/>
          <a:stretch/>
        </p:blipFill>
        <p:spPr>
          <a:xfrm>
            <a:off x="5351400" y="1523880"/>
            <a:ext cx="2697120" cy="39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efinitions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88560" y="1523880"/>
            <a:ext cx="39639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said to b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reas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erva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f for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at interv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01_02"/>
          <p:cNvPicPr/>
          <p:nvPr/>
        </p:nvPicPr>
        <p:blipFill>
          <a:blip r:embed="rId1"/>
          <a:stretch/>
        </p:blipFill>
        <p:spPr>
          <a:xfrm>
            <a:off x="5372280" y="1523880"/>
            <a:ext cx="270504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88560" y="1523880"/>
            <a:ext cx="39639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said to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erva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for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at interval,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efinitions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08" name="Picture 7" descr="01_03"/>
          <p:cNvPicPr/>
          <p:nvPr/>
        </p:nvPicPr>
        <p:blipFill>
          <a:blip r:embed="rId1"/>
          <a:stretch/>
        </p:blipFill>
        <p:spPr>
          <a:xfrm>
            <a:off x="5181480" y="1523880"/>
            <a:ext cx="3272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Relative Maximum and Minimum Value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function for whi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ists for so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domai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a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relative maximu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re exists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a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relative minimu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re exists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0:59Z</dcterms:created>
  <dc:creator>Addison Wesley</dc:creator>
  <dc:description/>
  <dc:language>en-US</dc:language>
  <cp:lastModifiedBy>beasoa</cp:lastModifiedBy>
  <dcterms:modified xsi:type="dcterms:W3CDTF">2012-09-10T18:55:41Z</dcterms:modified>
  <cp:revision>223</cp:revision>
  <dc:subject/>
  <dc:title>No Slide Title</dc:title>
</cp:coreProperties>
</file>